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DE44-CDA8-408B-950F-1BB025E3B71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30E6-FF71-4CF5-878A-79193EAF2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I not autogene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I not autogene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01FF-2F36-4AAF-B579-33EE06762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C132-1035-4359-A329-0431004D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B37D-09BE-48A9-B2CE-B83E610AA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A237-9AFB-446E-9357-65497A910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33ED-D4B1-4FF8-BB55-D4F73018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E5FF-AFF5-4F2E-B5EE-2AAD59C1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5D3E-EB5E-467D-AB06-8EAE9112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2E13-4592-43D5-B990-132FCC05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DA06-F302-49E1-9F7A-6E57E9C1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D5C7-0F95-40D2-A196-E9AFD1EF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9775-CD72-4C66-9BEC-8463F9F7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B3E5-49C7-4871-9AA9-4549EA54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44F4-2321-4A8E-8197-C6DEC78B5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1219320"/>
            <a:ext cx="8381880" cy="2209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ware: Its latest development using Moose and Bio::Chado::Sch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dhartha Ba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cty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dictybas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er for Genetic 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thwestern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34"/>
          <p:cNvSpPr/>
          <p:nvPr/>
        </p:nvSpPr>
        <p:spPr>
          <a:xfrm>
            <a:off x="914400" y="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Web application(Literature cu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35"/>
          <p:cNvSpPr/>
          <p:nvPr/>
        </p:nvSpPr>
        <p:spPr>
          <a:xfrm>
            <a:off x="385920" y="60948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066680"/>
            <a:ext cx="8305920" cy="5181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34"/>
          <p:cNvSpPr/>
          <p:nvPr/>
        </p:nvSpPr>
        <p:spPr>
          <a:xfrm>
            <a:off x="91440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Command line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35"/>
          <p:cNvSpPr/>
          <p:nvPr/>
        </p:nvSpPr>
        <p:spPr>
          <a:xfrm>
            <a:off x="385920" y="68580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1447920"/>
            <a:ext cx="731520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blication(from pubm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ort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ort ontology(obo f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ort GAF 1.0/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ort GA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34"/>
          <p:cNvSpPr/>
          <p:nvPr/>
        </p:nvSpPr>
        <p:spPr>
          <a:xfrm>
            <a:off x="914400" y="76320"/>
            <a:ext cx="7086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Experimental builder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35"/>
          <p:cNvSpPr/>
          <p:nvPr/>
        </p:nvSpPr>
        <p:spPr>
          <a:xfrm>
            <a:off x="380880" y="609480"/>
            <a:ext cx="822492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1219320"/>
            <a:ext cx="72392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package Modware::Publication::Pubm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use Modware::Cha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Arial"/>
              </a:rPr>
              <a:t>bcs_resultset ‘Pub::Pub’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Arial"/>
              </a:rPr>
              <a:t>chado_has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$_ for qw/title pages issue volume/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hado_has ‘pub_id’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  =&gt; (column =&gt; ‘primary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hado_has ‘year’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  =&gt; (column =&gt; ‘pyear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hado_has ‘pubmed_id’     =&gt; (column =&gt; ‘uniquename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120" y="1143000"/>
            <a:ext cx="716256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Arial"/>
              </a:rPr>
              <a:t>chado_typ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‘type’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    =&gt; (cv =&gt; ‘pub_type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Arial"/>
              </a:rPr>
              <a:t>chado_property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‘abstract’    =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cv =&gt; ‘pub_type’, cvterm =&gt; ‘pub_abstract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hado_has_many ‘authors’  =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class =&gt; ‘Modware::Publication::Author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62120" y="1143000"/>
            <a:ext cx="716256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Arial"/>
              </a:rPr>
              <a:t>chado_typ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‘type’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    =&gt; (cv =&gt; ‘pub_type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Arial"/>
              </a:rPr>
              <a:t>chado_property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‘abstract’    =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cv =&gt; ‘pub_type’, cvterm =&gt; ‘pub_abstract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hado_has_many ‘authors’  =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class =&gt; ‘Modware::Publication::Author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38080" y="1676520"/>
            <a:ext cx="7543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package Modware::Chado::Stoc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use Modware::Cha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bcs_resultset ‘Stock::Stoc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hado_dbxref   ‘id’ =&gt; (db =&gt; ‘Stock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hado_belongs_to ‘organism’ =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class =&gt; ‘Modware::Chado::Organism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34"/>
          <p:cNvSpPr/>
          <p:nvPr/>
        </p:nvSpPr>
        <p:spPr>
          <a:xfrm>
            <a:off x="914400" y="22860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Proje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35"/>
          <p:cNvSpPr/>
          <p:nvPr/>
        </p:nvSpPr>
        <p:spPr>
          <a:xfrm>
            <a:off x="385920" y="76212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1447920"/>
            <a:ext cx="8305920" cy="32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://github.com/cybersiddhu/Mo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://gmod.org/wiki/Mo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mod-ware-users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34"/>
          <p:cNvSpPr/>
          <p:nvPr/>
        </p:nvSpPr>
        <p:spPr>
          <a:xfrm>
            <a:off x="914400" y="763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Related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35"/>
          <p:cNvSpPr/>
          <p:nvPr/>
        </p:nvSpPr>
        <p:spPr>
          <a:xfrm>
            <a:off x="380880" y="685800"/>
            <a:ext cx="822492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167652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jolicious::Plugin::Caching (in CP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search.cpan.org/dist/Mojolicious-Plugin-Cac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jolicious::PluginBun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AMLConf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ware::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tTagHel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github.com/cybersiddhu/Mojolicious-PluginBun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09120" y="990360"/>
            <a:ext cx="3505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cty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x Chishol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rren Kib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ic J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ulia Bushman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tra F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scale Gaud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b Dod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990720" y="763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54321"/>
                </a:solidFill>
                <a:latin typeface="Arial"/>
                <a:ea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"/>
          <p:cNvSpPr/>
          <p:nvPr/>
        </p:nvSpPr>
        <p:spPr>
          <a:xfrm>
            <a:off x="533520" y="68580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1692360"/>
            <a:ext cx="396216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CS(Bio::Chado::Schema)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pe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MO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6212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M for chado/biological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des chado specific storage deta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nk about Gene/Protein, Alignment, Publication, Ontology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arch/Finder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versal API between biological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tibility with other API(e.g bioper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command line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 of MVC web applications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alyst/Mojo/Dancer et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34"/>
          <p:cNvSpPr/>
          <p:nvPr/>
        </p:nvSpPr>
        <p:spPr>
          <a:xfrm>
            <a:off x="380880" y="22860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54321"/>
                </a:solidFill>
                <a:latin typeface="Arial"/>
                <a:ea typeface="Arial"/>
              </a:rPr>
              <a:t>Modware - </a:t>
            </a: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Chado</a:t>
            </a:r>
            <a:r>
              <a:rPr b="1" lang="en-US" sz="2200" spc="-1" strike="noStrike">
                <a:solidFill>
                  <a:srgbClr val="654321"/>
                </a:solidFill>
                <a:latin typeface="Arial"/>
                <a:ea typeface="Arial"/>
              </a:rPr>
              <a:t> middlew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35"/>
          <p:cNvSpPr/>
          <p:nvPr/>
        </p:nvSpPr>
        <p:spPr>
          <a:xfrm>
            <a:off x="385920" y="76212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520" y="10663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rted with Class::DBI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release of Class::DBI module (4 years ba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test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ed with dictyBase data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yer on Bio::Chado::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ose for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ation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34"/>
          <p:cNvSpPr/>
          <p:nvPr/>
        </p:nvSpPr>
        <p:spPr>
          <a:xfrm>
            <a:off x="380880" y="22860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54321"/>
                </a:solidFill>
                <a:latin typeface="Arial"/>
                <a:ea typeface="Arial"/>
              </a:rPr>
              <a:t>Modware - Chado middlew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35"/>
          <p:cNvSpPr/>
          <p:nvPr/>
        </p:nvSpPr>
        <p:spPr>
          <a:xfrm>
            <a:off x="385920" y="68580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34"/>
          <p:cNvSpPr/>
          <p:nvPr/>
        </p:nvSpPr>
        <p:spPr>
          <a:xfrm>
            <a:off x="914400" y="76320"/>
            <a:ext cx="7086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54321"/>
                </a:solidFill>
                <a:latin typeface="Arial"/>
                <a:ea typeface="Arial"/>
              </a:rPr>
              <a:t>Modware Data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35"/>
          <p:cNvSpPr/>
          <p:nvPr/>
        </p:nvSpPr>
        <p:spPr>
          <a:xfrm>
            <a:off x="380880" y="609480"/>
            <a:ext cx="822492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762120"/>
            <a:ext cx="8628120" cy="55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600" spc="-1" strike="noStrike">
                <a:solidFill>
                  <a:srgbClr val="3300ff"/>
                </a:solidFill>
                <a:latin typeface="Arial"/>
                <a:ea typeface="Arial"/>
              </a:rPr>
              <a:t>use aliased ‘Modware::DataSource::Chado’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Chado-&gt;connect(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dsn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=&gt; ‘dbi:Pg:database=mymod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use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=&gt; ‘user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password  =&gt; ‘password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Chado-&gt;connect(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dsn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=&gt; ‘dbi:Oracle:sid=mymod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use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=&gt; ‘user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password  =&gt; ‘password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attr             =&gt; { AutoCommit =&gt; 1, LongTruncOk =&gt; 1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Chado-&gt;connect( dsn =&gt; ‘dbi:SQLite:database=mydb.sqlite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et/Set through Bio::Chado::Schema(BC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my $bcs = Chado-&gt;handl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Chado-&gt;handler(Bio::Chado::Schema-&gt;connect($dsn,$user,$pass,$attr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34"/>
          <p:cNvSpPr/>
          <p:nvPr/>
        </p:nvSpPr>
        <p:spPr>
          <a:xfrm>
            <a:off x="914400" y="76320"/>
            <a:ext cx="7086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CRUD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35"/>
          <p:cNvSpPr/>
          <p:nvPr/>
        </p:nvSpPr>
        <p:spPr>
          <a:xfrm>
            <a:off x="385920" y="60948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838080"/>
            <a:ext cx="7848720" cy="55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use Modware::Publication::Pubme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use Modware::Publication::Author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my $pub = Modware::Publication::Pubmed-&gt;new 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year     =&gt; 201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tatus  =&gt; ‘published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cv        =&gt;  ‘pub_type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pubmed_id(332228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journal(‘JBC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abstract(‘This is a cool abstarct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title(‘Charming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add_author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Modware::Publication::Author-&gt;new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irst_name =&gt; ‘Larry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last_name =&gt; ‘Johnson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initials       =&gt; ‘Mr.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152280"/>
            <a:ext cx="7315200" cy="63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my $new_pub = $pub-&gt;sav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new_pub-&gt;add_author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{    first_name =&gt; ‘Jerry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last_name =&gt; ‘Seinfeld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initials        =&gt; ‘Mr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uffix         =&gt; ‘Jr.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}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medline_id(1278202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full_text_url(‘http://journal.org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title(‘Charming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$new_pub-&gt;sav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new_pub-&gt;dele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CS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my $bcs = $new_pub-&gt;dbr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34"/>
          <p:cNvSpPr/>
          <p:nvPr/>
        </p:nvSpPr>
        <p:spPr>
          <a:xfrm>
            <a:off x="914400" y="0"/>
            <a:ext cx="7086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Finder/Search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35"/>
          <p:cNvSpPr/>
          <p:nvPr/>
        </p:nvSpPr>
        <p:spPr>
          <a:xfrm>
            <a:off x="385920" y="53352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457200"/>
            <a:ext cx="8229600" cy="59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rieve singl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 = Modware::Chado::Publication-&gt;find(2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 = Modware::Chado::Publication-&gt;find_by_pubmed_id(32298302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rieve multipl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@pubs = Modware::Chado::Publication-&gt;search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irst_name =&gt; ‘Harry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last_name =&gt; ‘Williams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journal       =&gt; ‘EMBO journal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itr = Modware::Chado::Publication-&gt;search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irst_name =&gt; ‘Harry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last_name =&gt; ‘Williams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journal       =&gt; ‘EMBO journal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while(my $pub = $itr-&gt;nex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tit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journ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09480" y="228600"/>
            <a:ext cx="822960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@authors = $pub-&gt;authors;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or my $author(@author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author-&gt;first_na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c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count = Modware::Chado::Publication-&gt;count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irst_name =&gt; ‘Harry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last_name =&gt; ‘Williams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journal       =&gt; ‘EMBO journal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s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Modware::Chado::Publication-&gt;search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%option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cond =&gt; { clause =&gt; ‘OR’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              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Modware::Chado::Publication-&gt;search( title =&gt; ‘genomics*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34"/>
          <p:cNvSpPr/>
          <p:nvPr/>
        </p:nvSpPr>
        <p:spPr>
          <a:xfrm>
            <a:off x="914400" y="7632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Web application (List of publ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35"/>
          <p:cNvSpPr/>
          <p:nvPr/>
        </p:nvSpPr>
        <p:spPr>
          <a:xfrm>
            <a:off x="385920" y="68580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1143000"/>
            <a:ext cx="8534160" cy="5105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21:33:32Z</dcterms:created>
  <dc:creator>Eric Just</dc:creator>
  <dc:description/>
  <dc:language>en-US</dc:language>
  <cp:lastModifiedBy>Siddhartha Basu</cp:lastModifiedBy>
  <dcterms:modified xsi:type="dcterms:W3CDTF">2011-03-06T17:30:36Z</dcterms:modified>
  <cp:revision>312</cp:revision>
  <dc:subject/>
  <dc:title>Slide 1</dc:title>
</cp:coreProperties>
</file>